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AE3-FC5D-43B6-831C-16110D83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F9B-F97E-4244-8454-4BE1BD23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162-D0BE-4404-AA22-40914F8E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5DF-F66B-422D-B5F3-5CB3358D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5F43-87C0-41E7-A2F3-B37871AA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3942-89C6-4BB7-AF44-87BA4B89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7A44-4576-43AA-8735-A9209181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6606-16C8-4A2B-BBC7-20027B5B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F7C6-205D-4504-BA8A-7D159DFE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407F-E489-4D48-AA75-C57E9864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37A3-907F-4154-B50C-F1E826CB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CB7-148D-497E-8DB2-0F00342A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356D-4DB6-48FC-B20A-3F71132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C9AF-A224-4031-AB3E-D226876C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CC7D-4385-45B6-A394-02042529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4350-AE76-4AD3-AAFC-CC1BFC2E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1526-6E31-499A-9632-DA52138A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3A1-978F-435B-89F1-D5D73E4A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443-EE4C-49EF-88FD-12C5876C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E00-CE2F-451A-8BEA-316F2039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DEA-C936-4756-830F-B49C916C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BA0-400F-483A-A7DA-3B6D35A7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884-E3C1-4ACD-AFC0-87059DDE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0B5-4C88-487A-86D5-FC335AB8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png"/><Relationship Id="rId12" Type="http://schemas.openxmlformats.org/officeDocument/2006/relationships/image" Target="../media/image6.jpe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jpeg"/><Relationship Id="rId17" Type="http://schemas.openxmlformats.org/officeDocument/2006/relationships/image" Target="../media/image7.png"/><Relationship Id="rId18" Type="http://schemas.openxmlformats.org/officeDocument/2006/relationships/image" Target="../media/image6.jpeg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3688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95880" y="647676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657240" y="654192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9B39-CA24-4567-8F22-DE35E30D160F}" type="slidenum">
              <a:rPr b="0" lang="zh-CN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420920" y="122400"/>
            <a:ext cx="1733040" cy="1675440"/>
            <a:chOff x="1420920" y="122400"/>
            <a:chExt cx="1733040" cy="1675440"/>
          </a:xfrm>
        </p:grpSpPr>
        <p:pic>
          <p:nvPicPr>
            <p:cNvPr id="6" name="" descr=""/>
            <p:cNvPicPr/>
            <p:nvPr/>
          </p:nvPicPr>
          <p:blipFill>
            <a:blip r:embed="rId3"/>
            <a:srcRect l="53087" t="15098" r="12963" b="45286"/>
            <a:stretch/>
          </p:blipFill>
          <p:spPr>
            <a:xfrm>
              <a:off x="1420920" y="122400"/>
              <a:ext cx="94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 rot="6165600">
              <a:off x="1889640" y="518400"/>
              <a:ext cx="10969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 rot="20251800">
            <a:off x="304920" y="5335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 rot="20463000">
            <a:off x="7743600" y="439200"/>
            <a:ext cx="839520" cy="4478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 rot="20463000">
            <a:off x="8378640" y="171000"/>
            <a:ext cx="539640" cy="28728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 rot="21444000">
            <a:off x="6477120" y="721800"/>
            <a:ext cx="609480" cy="49716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 rot="21112800">
            <a:off x="6858000" y="130320"/>
            <a:ext cx="963720" cy="7840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6" descr="0饮品设计0K-2-内7最终版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4" descr="康师傅饮品控股LOGO"/>
          <p:cNvPicPr/>
          <p:nvPr/>
        </p:nvPicPr>
        <p:blipFill>
          <a:blip r:embed="rId11"/>
          <a:stretch/>
        </p:blipFill>
        <p:spPr>
          <a:xfrm>
            <a:off x="7772400" y="76320"/>
            <a:ext cx="1295280" cy="32544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6" descr="0饮品设计0K-2-内7最终版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4" descr="康师傅饮品控股LOGO"/>
          <p:cNvPicPr/>
          <p:nvPr/>
        </p:nvPicPr>
        <p:blipFill>
          <a:blip r:embed="rId13"/>
          <a:stretch/>
        </p:blipFill>
        <p:spPr>
          <a:xfrm>
            <a:off x="7772400" y="76320"/>
            <a:ext cx="129528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0288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7738200" y="1522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cc"/>
              </a:solidFill>
              <a:latin typeface="宋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rcRect l="53087" t="15098" r="12963" b="45286"/>
          <a:stretch/>
        </p:blipFill>
        <p:spPr>
          <a:xfrm>
            <a:off x="914400" y="609480"/>
            <a:ext cx="47160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53087" t="15098" r="12963" b="45286"/>
          <a:stretch/>
        </p:blipFill>
        <p:spPr>
          <a:xfrm>
            <a:off x="2133720" y="2590920"/>
            <a:ext cx="11458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53087" t="15098" r="12963" b="45286"/>
          <a:stretch/>
        </p:blipFill>
        <p:spPr>
          <a:xfrm>
            <a:off x="4952880" y="2438280"/>
            <a:ext cx="870120" cy="98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rcRect l="53087" t="15098" r="12963" b="45286"/>
          <a:stretch/>
        </p:blipFill>
        <p:spPr>
          <a:xfrm>
            <a:off x="304920" y="152280"/>
            <a:ext cx="93816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rcRect l="53087" t="15098" r="12963" b="45286"/>
          <a:stretch/>
        </p:blipFill>
        <p:spPr>
          <a:xfrm>
            <a:off x="5410080" y="198108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 rot="6165600">
            <a:off x="2369520" y="296352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 rot="16912800">
            <a:off x="1125000" y="1464480"/>
            <a:ext cx="1055880" cy="1173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rcRect l="53087" t="15098" r="12963" b="45286"/>
          <a:stretch/>
        </p:blipFill>
        <p:spPr>
          <a:xfrm>
            <a:off x="3352680" y="213372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rcRect l="53087" t="15098" r="12963" b="45286"/>
          <a:stretch/>
        </p:blipFill>
        <p:spPr>
          <a:xfrm>
            <a:off x="3200400" y="2057400"/>
            <a:ext cx="203040" cy="228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49AF-ADB1-469F-BD26-09765BEE71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 rot="546000">
            <a:off x="7245000" y="4913280"/>
            <a:ext cx="1284120" cy="682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 rot="546000">
            <a:off x="8164440" y="4842000"/>
            <a:ext cx="824040" cy="43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4"/>
          <a:stretch/>
        </p:blipFill>
        <p:spPr>
          <a:xfrm rot="702000">
            <a:off x="5334120" y="434304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5"/>
          <a:stretch/>
        </p:blipFill>
        <p:spPr>
          <a:xfrm rot="702000">
            <a:off x="6046560" y="3610080"/>
            <a:ext cx="1725480" cy="140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0饮品设计0K-2-内7最终版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康师傅饮品控股LOGO"/>
          <p:cNvPicPr/>
          <p:nvPr/>
        </p:nvPicPr>
        <p:blipFill>
          <a:blip r:embed="rId17"/>
          <a:stretch/>
        </p:blipFill>
        <p:spPr>
          <a:xfrm>
            <a:off x="7772400" y="76320"/>
            <a:ext cx="1295280" cy="325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0饮品设计0K-2-内7最终版"/>
          <p:cNvPicPr/>
          <p:nvPr/>
        </p:nvPicPr>
        <p:blipFill>
          <a:blip r:embed="rId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康师傅饮品控股LOGO"/>
          <p:cNvPicPr/>
          <p:nvPr/>
        </p:nvPicPr>
        <p:blipFill>
          <a:blip r:embed="rId19"/>
          <a:stretch/>
        </p:blipFill>
        <p:spPr>
          <a:xfrm>
            <a:off x="7772400" y="76320"/>
            <a:ext cx="129528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76520" y="1981080"/>
            <a:ext cx="64767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3200" indent="-13176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6600" spc="-1" strike="noStrike">
                <a:solidFill>
                  <a:srgbClr val="0099ff"/>
                </a:solidFill>
                <a:latin typeface="黑体"/>
                <a:ea typeface="黑体"/>
              </a:rPr>
              <a:t>怎样预防中暑</a:t>
            </a:r>
            <a:endParaRPr b="0" lang="en-US" sz="66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5715000"/>
            <a:ext cx="266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3200" indent="-1317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人资部人力发展科</a:t>
            </a:r>
            <a:endParaRPr b="0" lang="en-US" sz="2000" spc="-1" strike="noStrike">
              <a:solidFill>
                <a:srgbClr val="0000cc"/>
              </a:solidFill>
              <a:latin typeface="宋体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rot="21112800">
            <a:off x="6781680" y="533520"/>
            <a:ext cx="96372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 rot="21444000">
            <a:off x="6400800" y="1294920"/>
            <a:ext cx="609480" cy="497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 rot="20463000">
            <a:off x="7772400" y="1218960"/>
            <a:ext cx="839880" cy="447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 rot="20463000">
            <a:off x="8229240" y="456840"/>
            <a:ext cx="539640" cy="28728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2093760" cy="243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971800" y="914400"/>
            <a:ext cx="495288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什么是中暑</a:t>
            </a:r>
            <a:endParaRPr b="0" lang="en-US" sz="1600" spc="1" strike="noStrike">
              <a:ln w="93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5909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中暑俗称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发痧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，以出汗停止因而身体排热不足、体温高、脉搏迅速 、皮肤干热、肌肉松软、虚脱及昏迷为特征的一种病症，由于暴露于高温环境过久而引起身体体温调节机制的障碍所致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宋体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137c7"/>
                                      </p:to>
                                    </p:animClr>
                                    <p:animClr clrSpc="rgb">
                                      <p:cBhvr>
                                        <p:cTn id="26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137c7"/>
                                      </p:to>
                                    </p:animClr>
                                    <p:set>
                                      <p:cBhvr>
                                        <p:cTn id="27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523880" y="1143000"/>
            <a:ext cx="5410440" cy="4716360"/>
            <a:chOff x="1523880" y="1143000"/>
            <a:chExt cx="5410440" cy="471636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41667" t="41928" r="42107" b="45650"/>
            <a:stretch/>
          </p:blipFill>
          <p:spPr>
            <a:xfrm>
              <a:off x="1523880" y="1143000"/>
              <a:ext cx="5410440" cy="47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 txBox="1"/>
            <p:nvPr/>
          </p:nvSpPr>
          <p:spPr>
            <a:xfrm>
              <a:off x="1523880" y="1143000"/>
              <a:ext cx="5410440" cy="47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8600" y="1676520"/>
            <a:ext cx="3200400" cy="3200400"/>
            <a:chOff x="228600" y="1676520"/>
            <a:chExt cx="3200400" cy="3200400"/>
          </a:xfrm>
        </p:grpSpPr>
        <p:sp>
          <p:nvSpPr>
            <p:cNvPr id="124" name=""/>
            <p:cNvSpPr/>
            <p:nvPr/>
          </p:nvSpPr>
          <p:spPr>
            <a:xfrm>
              <a:off x="228600" y="167652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cc"/>
                </a:solidFill>
                <a:latin typeface="宋体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1760" y="25909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造成中暑的原因</a:t>
              </a:r>
              <a:endParaRPr b="0" lang="en-US" sz="36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743200" y="762120"/>
            <a:ext cx="5257800" cy="1218960"/>
            <a:chOff x="2743200" y="762120"/>
            <a:chExt cx="5257800" cy="1218960"/>
          </a:xfrm>
        </p:grpSpPr>
        <p:sp>
          <p:nvSpPr>
            <p:cNvPr id="127" name=""/>
            <p:cNvSpPr/>
            <p:nvPr/>
          </p:nvSpPr>
          <p:spPr>
            <a:xfrm>
              <a:off x="4038480" y="762120"/>
              <a:ext cx="3962520" cy="685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efe"/>
                </a:gs>
                <a:gs pos="100000">
                  <a:srgbClr val="66ffff"/>
                </a:gs>
              </a:gsLst>
              <a:lin ang="108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室内高温作业，通风差</a:t>
              </a:r>
              <a:endParaRPr b="0" lang="en-US" sz="2000" spc="-1" strike="noStrike">
                <a:solidFill>
                  <a:srgbClr val="0000cc"/>
                </a:solidFill>
                <a:latin typeface="宋体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743200" y="1219320"/>
              <a:ext cx="1295280" cy="7617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320" y="1828800"/>
            <a:ext cx="4725000" cy="838080"/>
            <a:chOff x="3352320" y="1828800"/>
            <a:chExt cx="4725000" cy="838080"/>
          </a:xfrm>
        </p:grpSpPr>
        <p:sp>
          <p:nvSpPr>
            <p:cNvPr id="130" name=""/>
            <p:cNvSpPr/>
            <p:nvPr/>
          </p:nvSpPr>
          <p:spPr>
            <a:xfrm>
              <a:off x="4191120" y="1828800"/>
              <a:ext cx="3886200" cy="76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efe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户外露天暴晒作业，</a:t>
              </a:r>
              <a:endParaRPr b="0" lang="en-US" sz="2000" spc="-1" strike="noStrike">
                <a:solidFill>
                  <a:srgbClr val="0000cc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致脑膜充血，大脑皮层缺血</a:t>
              </a:r>
              <a:endParaRPr b="0" lang="en-US" sz="2000" spc="-1" strike="noStrike">
                <a:solidFill>
                  <a:srgbClr val="0000cc"/>
                </a:solidFill>
                <a:latin typeface="宋体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52320" y="2286000"/>
              <a:ext cx="838440" cy="3808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28640" y="2895480"/>
            <a:ext cx="4724640" cy="685800"/>
            <a:chOff x="3428640" y="2895480"/>
            <a:chExt cx="4724640" cy="685800"/>
          </a:xfrm>
        </p:grpSpPr>
        <p:sp>
          <p:nvSpPr>
            <p:cNvPr id="133" name=""/>
            <p:cNvSpPr/>
            <p:nvPr/>
          </p:nvSpPr>
          <p:spPr>
            <a:xfrm>
              <a:off x="4191120" y="2895480"/>
              <a:ext cx="3962160" cy="685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fffb"/>
                </a:gs>
                <a:gs pos="100000">
                  <a:srgbClr val="ffff00"/>
                </a:gs>
              </a:gsLst>
              <a:lin ang="108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工作强度过大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2800" spc="-1" strike="noStrike">
                <a:solidFill>
                  <a:srgbClr val="0000cc"/>
                </a:solidFill>
                <a:latin typeface="宋体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8640" y="3200400"/>
              <a:ext cx="762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123720" y="3962520"/>
            <a:ext cx="5105880" cy="685800"/>
            <a:chOff x="3123720" y="3962520"/>
            <a:chExt cx="5105880" cy="685800"/>
          </a:xfrm>
        </p:grpSpPr>
        <p:sp>
          <p:nvSpPr>
            <p:cNvPr id="136" name=""/>
            <p:cNvSpPr/>
            <p:nvPr/>
          </p:nvSpPr>
          <p:spPr>
            <a:xfrm>
              <a:off x="4267080" y="3962520"/>
              <a:ext cx="3962520" cy="685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fffb"/>
                </a:gs>
                <a:gs pos="100000">
                  <a:srgbClr val="ff6600"/>
                </a:gs>
              </a:gsLst>
              <a:lin ang="108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睡眠不足，过度疲劳</a:t>
              </a:r>
              <a:endParaRPr b="0" lang="en-US" sz="2000" spc="-1" strike="noStrike">
                <a:solidFill>
                  <a:srgbClr val="0000cc"/>
                </a:solidFill>
                <a:latin typeface="宋体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123720" y="4114440"/>
              <a:ext cx="1143000" cy="1522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90920" y="4724280"/>
            <a:ext cx="5790960" cy="1143000"/>
            <a:chOff x="2590920" y="4724280"/>
            <a:chExt cx="5790960" cy="1143000"/>
          </a:xfrm>
        </p:grpSpPr>
        <p:sp>
          <p:nvSpPr>
            <p:cNvPr id="139" name=""/>
            <p:cNvSpPr/>
            <p:nvPr/>
          </p:nvSpPr>
          <p:spPr>
            <a:xfrm>
              <a:off x="4191120" y="5181480"/>
              <a:ext cx="4190760" cy="685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efe"/>
                </a:gs>
                <a:gs pos="100000">
                  <a:srgbClr val="ff6699"/>
                </a:gs>
              </a:gsLst>
              <a:lin ang="108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人群拥挤集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产热集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散热困难</a:t>
              </a:r>
              <a:endParaRPr b="0" lang="en-US" sz="2000" spc="-1" strike="noStrike">
                <a:solidFill>
                  <a:srgbClr val="0000cc"/>
                </a:solidFill>
                <a:latin typeface="宋体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590920" y="4724280"/>
              <a:ext cx="16761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352680" y="4240080"/>
            <a:ext cx="4241880" cy="1035360"/>
            <a:chOff x="3352680" y="4240080"/>
            <a:chExt cx="4241880" cy="1035360"/>
          </a:xfrm>
        </p:grpSpPr>
        <p:sp>
          <p:nvSpPr>
            <p:cNvPr id="142" name=""/>
            <p:cNvSpPr/>
            <p:nvPr/>
          </p:nvSpPr>
          <p:spPr>
            <a:xfrm>
              <a:off x="3352680" y="4240080"/>
              <a:ext cx="4241880" cy="103536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bb21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cc"/>
                </a:solidFill>
                <a:latin typeface="宋体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480" y="4267080"/>
              <a:ext cx="350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Arial"/>
                </a:rPr>
                <a:t>恶心、呕吐；瞳孔扩大；腹部或肢体痉挛；脉搏快；常伴有昏厥，昏迷，高热甚至意识丧失</a:t>
              </a:r>
              <a:endParaRPr b="0" lang="en-US" sz="18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378240" y="3086280"/>
            <a:ext cx="4262400" cy="1022040"/>
            <a:chOff x="3378240" y="3086280"/>
            <a:chExt cx="4262400" cy="1022040"/>
          </a:xfrm>
        </p:grpSpPr>
        <p:sp>
          <p:nvSpPr>
            <p:cNvPr id="145" name=""/>
            <p:cNvSpPr/>
            <p:nvPr/>
          </p:nvSpPr>
          <p:spPr>
            <a:xfrm>
              <a:off x="3378240" y="3086280"/>
              <a:ext cx="4219560" cy="102204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cc"/>
                </a:solidFill>
                <a:latin typeface="宋体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8480" y="3124080"/>
              <a:ext cx="36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Arial"/>
                </a:rPr>
                <a:t>体温在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38℃</a:t>
              </a:r>
              <a:r>
                <a:rPr b="1" lang="zh-CN" sz="1800" spc="-1" strike="noStrike">
                  <a:solidFill>
                    <a:srgbClr val="cc3300"/>
                  </a:solidFill>
                  <a:latin typeface="Arial"/>
                </a:rPr>
                <a:t>以上，面色红成苍白、大汗、皮肤湿冷、血压下降、脉搏增快</a:t>
              </a:r>
              <a:endParaRPr b="0" lang="en-US" sz="18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219320" y="3924360"/>
            <a:ext cx="2295000" cy="1401840"/>
            <a:chOff x="1219320" y="3924360"/>
            <a:chExt cx="2295000" cy="1401840"/>
          </a:xfrm>
        </p:grpSpPr>
        <p:grpSp>
          <p:nvGrpSpPr>
            <p:cNvPr id="148" name=""/>
            <p:cNvGrpSpPr/>
            <p:nvPr/>
          </p:nvGrpSpPr>
          <p:grpSpPr>
            <a:xfrm>
              <a:off x="1219320" y="3924360"/>
              <a:ext cx="2295000" cy="1401840"/>
              <a:chOff x="1219320" y="3924360"/>
              <a:chExt cx="2295000" cy="1401840"/>
            </a:xfrm>
          </p:grpSpPr>
          <p:sp>
            <p:nvSpPr>
              <p:cNvPr id="149" name=""/>
              <p:cNvSpPr/>
              <p:nvPr/>
            </p:nvSpPr>
            <p:spPr>
              <a:xfrm>
                <a:off x="1219320" y="4986360"/>
                <a:ext cx="2291040" cy="329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cc"/>
                  </a:solidFill>
                  <a:latin typeface="宋体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23280" y="3924360"/>
                <a:ext cx="2291040" cy="1401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1b520b"/>
                  </a:gs>
                  <a:gs pos="50000">
                    <a:srgbClr val="3bb21a">
                      <a:alpha val="50196"/>
                    </a:srgbClr>
                  </a:gs>
                  <a:gs pos="100000">
                    <a:srgbClr val="1b520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cc"/>
                  </a:solidFill>
                  <a:latin typeface="宋体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292400" y="4395960"/>
              <a:ext cx="2128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重度中暑</a:t>
              </a:r>
              <a:endParaRPr b="0" lang="en-US" sz="24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219320" y="2801880"/>
            <a:ext cx="2295000" cy="1401840"/>
            <a:chOff x="1219320" y="2801880"/>
            <a:chExt cx="2295000" cy="1401840"/>
          </a:xfrm>
        </p:grpSpPr>
        <p:grpSp>
          <p:nvGrpSpPr>
            <p:cNvPr id="153" name=""/>
            <p:cNvGrpSpPr/>
            <p:nvPr/>
          </p:nvGrpSpPr>
          <p:grpSpPr>
            <a:xfrm>
              <a:off x="1219320" y="2801880"/>
              <a:ext cx="2295000" cy="1401840"/>
              <a:chOff x="1219320" y="2801880"/>
              <a:chExt cx="2295000" cy="1401840"/>
            </a:xfrm>
          </p:grpSpPr>
          <p:sp>
            <p:nvSpPr>
              <p:cNvPr id="154" name=""/>
              <p:cNvSpPr/>
              <p:nvPr/>
            </p:nvSpPr>
            <p:spPr>
              <a:xfrm>
                <a:off x="1219320" y="3863880"/>
                <a:ext cx="2291040" cy="329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cc"/>
                  </a:solidFill>
                  <a:latin typeface="宋体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23280" y="2801880"/>
                <a:ext cx="2291040" cy="1401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2f00"/>
                  </a:gs>
                  <a:gs pos="50000">
                    <a:srgbClr val="cc6600">
                      <a:alpha val="50196"/>
                    </a:srgbClr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cc"/>
                  </a:solidFill>
                  <a:latin typeface="宋体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292400" y="3268800"/>
              <a:ext cx="2128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轻度中暑</a:t>
              </a:r>
              <a:endParaRPr b="0" lang="en-US" sz="24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6600ff"/>
                </a:solidFill>
                <a:latin typeface="Verdana"/>
                <a:ea typeface="华文行楷"/>
              </a:rPr>
              <a:t>中暑的症状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90840" y="1859040"/>
            <a:ext cx="4276800" cy="1057320"/>
            <a:chOff x="3390840" y="1859040"/>
            <a:chExt cx="4276800" cy="1057320"/>
          </a:xfrm>
        </p:grpSpPr>
        <p:sp>
          <p:nvSpPr>
            <p:cNvPr id="159" name=""/>
            <p:cNvSpPr/>
            <p:nvPr/>
          </p:nvSpPr>
          <p:spPr>
            <a:xfrm>
              <a:off x="3390840" y="1859040"/>
              <a:ext cx="4229280" cy="105732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137c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cc"/>
                </a:solidFill>
                <a:latin typeface="宋体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86360" y="206064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Arial"/>
                </a:rPr>
                <a:t>头痛、眼花、耳鸣、头晕、口渴、心悸、体温正常或略升高</a:t>
              </a:r>
              <a:endParaRPr b="0" lang="en-US" sz="18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502080" y="2230560"/>
            <a:ext cx="482400" cy="392040"/>
          </a:xfrm>
          <a:prstGeom prst="rightArrow">
            <a:avLst>
              <a:gd name="adj1" fmla="val 50000"/>
              <a:gd name="adj2" fmla="val 51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162" name=""/>
          <p:cNvSpPr/>
          <p:nvPr/>
        </p:nvSpPr>
        <p:spPr>
          <a:xfrm>
            <a:off x="3510000" y="3352680"/>
            <a:ext cx="482400" cy="392400"/>
          </a:xfrm>
          <a:prstGeom prst="rightArrow">
            <a:avLst>
              <a:gd name="adj1" fmla="val 50000"/>
              <a:gd name="adj2" fmla="val 512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163" name=""/>
          <p:cNvSpPr/>
          <p:nvPr/>
        </p:nvSpPr>
        <p:spPr>
          <a:xfrm>
            <a:off x="3500280" y="4527720"/>
            <a:ext cx="482760" cy="390240"/>
          </a:xfrm>
          <a:prstGeom prst="rightArrow">
            <a:avLst>
              <a:gd name="adj1" fmla="val 50000"/>
              <a:gd name="adj2" fmla="val 515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cc"/>
              </a:solidFill>
              <a:latin typeface="宋体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19320" y="1676520"/>
            <a:ext cx="2295000" cy="1401480"/>
            <a:chOff x="1219320" y="1676520"/>
            <a:chExt cx="2295000" cy="1401480"/>
          </a:xfrm>
        </p:grpSpPr>
        <p:grpSp>
          <p:nvGrpSpPr>
            <p:cNvPr id="165" name=""/>
            <p:cNvGrpSpPr/>
            <p:nvPr/>
          </p:nvGrpSpPr>
          <p:grpSpPr>
            <a:xfrm>
              <a:off x="1219320" y="1676520"/>
              <a:ext cx="2295000" cy="1401480"/>
              <a:chOff x="1219320" y="1676520"/>
              <a:chExt cx="2295000" cy="1401480"/>
            </a:xfrm>
          </p:grpSpPr>
          <p:sp>
            <p:nvSpPr>
              <p:cNvPr id="166" name=""/>
              <p:cNvSpPr/>
              <p:nvPr/>
            </p:nvSpPr>
            <p:spPr>
              <a:xfrm>
                <a:off x="1219320" y="2738160"/>
                <a:ext cx="2291040" cy="329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cc"/>
                  </a:solidFill>
                  <a:latin typeface="宋体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23280" y="1676520"/>
                <a:ext cx="2291040" cy="1401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4195b"/>
                  </a:gs>
                  <a:gs pos="50000">
                    <a:srgbClr val="7137c7">
                      <a:alpha val="50196"/>
                    </a:srgbClr>
                  </a:gs>
                  <a:gs pos="100000">
                    <a:srgbClr val="3419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cc"/>
                  </a:solidFill>
                  <a:latin typeface="宋体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1292400" y="2063880"/>
              <a:ext cx="2128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先兆中暑</a:t>
              </a:r>
              <a:endParaRPr b="0" lang="en-US" sz="24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37c7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170" name=""/>
          <p:cNvSpPr/>
          <p:nvPr/>
        </p:nvSpPr>
        <p:spPr>
          <a:xfrm rot="10800000">
            <a:off x="533160" y="609480"/>
            <a:ext cx="8458200" cy="6019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171" name=""/>
          <p:cNvSpPr/>
          <p:nvPr/>
        </p:nvSpPr>
        <p:spPr>
          <a:xfrm>
            <a:off x="3248640" y="2362320"/>
            <a:ext cx="4295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隶书"/>
              </a:rPr>
              <a:t>一）撤离高温环境，选择阴凉通风地方</a:t>
            </a: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隶书"/>
              </a:rPr>
              <a:t>二）解开病人的衣扣、裤带</a:t>
            </a: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隶书"/>
              </a:rPr>
              <a:t>三）立即喝含盐的凉开水</a:t>
            </a: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隶书"/>
              </a:rPr>
              <a:t>四）降温处理：为患者泼水或用冷水擦身，而不是让他浸入冷水中</a:t>
            </a: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隶书"/>
              </a:rPr>
              <a:t>五）在额部、颞部涂抹清凉油、风油精等，或服用人丹、十滴水、藿香正气水等中药</a:t>
            </a: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隶书"/>
              </a:rPr>
              <a:t>六）如果出现血压降低、虚脱、神志不清，应在实施必要的急救措施同时急送医院抢</a:t>
            </a:r>
            <a:endParaRPr b="0" lang="en-US" sz="18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160020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中暑的急救方法</a:t>
            </a:r>
            <a:endParaRPr b="0" lang="en-US" sz="3200" spc="-1" strike="noStrike">
              <a:solidFill>
                <a:srgbClr val="0000cc"/>
              </a:solidFill>
              <a:latin typeface="宋体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Verdana"/>
                <a:ea typeface="华文行楷"/>
              </a:rPr>
              <a:t>中暑后饮食四大忌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-151920" y="-915120"/>
            <a:ext cx="9144000" cy="6248520"/>
          </a:xfrm>
          <a:prstGeom prst="blockArc">
            <a:avLst>
              <a:gd name="adj1" fmla="val 13199484"/>
              <a:gd name="adj2" fmla="val 19200516"/>
              <a:gd name="adj3" fmla="val 16556"/>
            </a:avLst>
          </a:prstGeom>
          <a:gradFill rotWithShape="0">
            <a:gsLst>
              <a:gs pos="0">
                <a:srgbClr val="bdcbdb"/>
              </a:gs>
              <a:gs pos="100000">
                <a:srgbClr val="00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cc"/>
              </a:solidFill>
              <a:latin typeface="宋体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2860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宋体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16160" y="2425680"/>
            <a:ext cx="1350720" cy="1294920"/>
            <a:chOff x="1316160" y="2425680"/>
            <a:chExt cx="1350720" cy="1294920"/>
          </a:xfrm>
        </p:grpSpPr>
        <p:grpSp>
          <p:nvGrpSpPr>
            <p:cNvPr id="177" name=""/>
            <p:cNvGrpSpPr/>
            <p:nvPr/>
          </p:nvGrpSpPr>
          <p:grpSpPr>
            <a:xfrm>
              <a:off x="1316160" y="2425680"/>
              <a:ext cx="1350720" cy="1294920"/>
              <a:chOff x="1316160" y="2425680"/>
              <a:chExt cx="1350720" cy="1294920"/>
            </a:xfrm>
          </p:grpSpPr>
          <p:pic>
            <p:nvPicPr>
              <p:cNvPr id="1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4320" y="3440880"/>
                <a:ext cx="111204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16160" y="2425680"/>
                <a:ext cx="1350720" cy="119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1316160" y="2425680"/>
                <a:ext cx="1341360" cy="1197720"/>
              </a:xfrm>
              <a:prstGeom prst="ellipse">
                <a:avLst/>
              </a:prstGeom>
              <a:gradFill rotWithShape="0">
                <a:gsLst>
                  <a:gs pos="0">
                    <a:srgbClr val="744d30">
                      <a:alpha val="90196"/>
                    </a:srgbClr>
                  </a:gs>
                  <a:gs pos="50000">
                    <a:srgbClr val="fca96a">
                      <a:alpha val="55294"/>
                    </a:srgbClr>
                  </a:gs>
                  <a:gs pos="100000">
                    <a:srgbClr val="744d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cc"/>
                  </a:solidFill>
                  <a:latin typeface="宋体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523880" y="27432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忌大量饮水</a:t>
              </a:r>
              <a:endParaRPr b="0" lang="en-US" sz="20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971800" y="2819520"/>
            <a:ext cx="1654200" cy="1748880"/>
            <a:chOff x="2971800" y="2819520"/>
            <a:chExt cx="1654200" cy="1748880"/>
          </a:xfrm>
        </p:grpSpPr>
        <p:grpSp>
          <p:nvGrpSpPr>
            <p:cNvPr id="183" name=""/>
            <p:cNvGrpSpPr/>
            <p:nvPr/>
          </p:nvGrpSpPr>
          <p:grpSpPr>
            <a:xfrm>
              <a:off x="2971800" y="2819520"/>
              <a:ext cx="1654200" cy="1748880"/>
              <a:chOff x="2971800" y="2819520"/>
              <a:chExt cx="1654200" cy="17488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2971800" y="2819520"/>
                <a:ext cx="1654200" cy="1748880"/>
                <a:chOff x="2971800" y="2819520"/>
                <a:chExt cx="1654200" cy="1748880"/>
              </a:xfrm>
            </p:grpSpPr>
            <p:pic>
              <p:nvPicPr>
                <p:cNvPr id="18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28760" y="4190760"/>
                  <a:ext cx="1362240" cy="37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971800" y="2819520"/>
                  <a:ext cx="1654200" cy="161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"/>
                <p:cNvSpPr/>
                <p:nvPr/>
              </p:nvSpPr>
              <p:spPr>
                <a:xfrm>
                  <a:off x="2971800" y="2819520"/>
                  <a:ext cx="1643040" cy="161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7135">
                        <a:alpha val="90196"/>
                      </a:srgbClr>
                    </a:gs>
                    <a:gs pos="50000">
                      <a:srgbClr val="6ff775">
                        <a:alpha val="55294"/>
                      </a:srgbClr>
                    </a:gs>
                    <a:gs pos="100000">
                      <a:srgbClr val="337135">
                        <a:alpha val="9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cc"/>
                    </a:solidFill>
                    <a:latin typeface="宋体"/>
                  </a:endParaRPr>
                </a:p>
              </p:txBody>
            </p:sp>
          </p:grpSp>
          <p:pic>
            <p:nvPicPr>
              <p:cNvPr id="1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136680" y="2835360"/>
                <a:ext cx="1306440" cy="570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" name=""/>
            <p:cNvSpPr/>
            <p:nvPr/>
          </p:nvSpPr>
          <p:spPr>
            <a:xfrm>
              <a:off x="3048120" y="327672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忌大量食用生冷瓜果</a:t>
              </a:r>
              <a:endParaRPr b="0" lang="en-US" sz="20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105520" y="2590920"/>
            <a:ext cx="1654200" cy="1749240"/>
            <a:chOff x="5105520" y="2590920"/>
            <a:chExt cx="1654200" cy="1749240"/>
          </a:xfrm>
        </p:grpSpPr>
        <p:grpSp>
          <p:nvGrpSpPr>
            <p:cNvPr id="191" name=""/>
            <p:cNvGrpSpPr/>
            <p:nvPr/>
          </p:nvGrpSpPr>
          <p:grpSpPr>
            <a:xfrm>
              <a:off x="5105520" y="2590920"/>
              <a:ext cx="1654200" cy="1749240"/>
              <a:chOff x="5105520" y="2590920"/>
              <a:chExt cx="1654200" cy="174924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5105520" y="2590920"/>
                <a:ext cx="1654200" cy="1749240"/>
                <a:chOff x="5105520" y="2590920"/>
                <a:chExt cx="1654200" cy="1749240"/>
              </a:xfrm>
            </p:grpSpPr>
            <p:pic>
              <p:nvPicPr>
                <p:cNvPr id="19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262480" y="3962520"/>
                  <a:ext cx="1362240" cy="37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105520" y="2590920"/>
                  <a:ext cx="1654200" cy="161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105520" y="2590920"/>
                  <a:ext cx="1643040" cy="161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7135">
                        <a:alpha val="90196"/>
                      </a:srgbClr>
                    </a:gs>
                    <a:gs pos="50000">
                      <a:srgbClr val="6ff775">
                        <a:alpha val="55294"/>
                      </a:srgbClr>
                    </a:gs>
                    <a:gs pos="100000">
                      <a:srgbClr val="337135">
                        <a:alpha val="9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cc"/>
                    </a:solidFill>
                    <a:latin typeface="宋体"/>
                  </a:endParaRPr>
                </a:p>
              </p:txBody>
            </p:sp>
          </p:grpSp>
          <p:pic>
            <p:nvPicPr>
              <p:cNvPr id="19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70400" y="2606760"/>
                <a:ext cx="1306440" cy="57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"/>
            <p:cNvSpPr/>
            <p:nvPr/>
          </p:nvSpPr>
          <p:spPr>
            <a:xfrm>
              <a:off x="5334120" y="3048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忌吃大量油腻食物</a:t>
              </a:r>
              <a:endParaRPr b="0" lang="en-US" sz="18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934320" y="2362320"/>
            <a:ext cx="1295280" cy="1371600"/>
            <a:chOff x="6934320" y="2362320"/>
            <a:chExt cx="1295280" cy="1371600"/>
          </a:xfrm>
        </p:grpSpPr>
        <p:grpSp>
          <p:nvGrpSpPr>
            <p:cNvPr id="199" name=""/>
            <p:cNvGrpSpPr/>
            <p:nvPr/>
          </p:nvGrpSpPr>
          <p:grpSpPr>
            <a:xfrm>
              <a:off x="6934320" y="2362320"/>
              <a:ext cx="1295280" cy="1371600"/>
              <a:chOff x="6934320" y="2362320"/>
              <a:chExt cx="1295280" cy="137160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6934320" y="2362320"/>
                <a:ext cx="1295280" cy="1371600"/>
                <a:chOff x="6934320" y="2362320"/>
                <a:chExt cx="1295280" cy="137160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058160" y="3436920"/>
                  <a:ext cx="1065240" cy="29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934320" y="2362320"/>
                  <a:ext cx="1295280" cy="1265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>
                  <a:off x="6934320" y="2362320"/>
                  <a:ext cx="1287360" cy="126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4d30">
                        <a:alpha val="90196"/>
                      </a:srgbClr>
                    </a:gs>
                    <a:gs pos="50000">
                      <a:srgbClr val="fca96a">
                        <a:alpha val="55294"/>
                      </a:srgbClr>
                    </a:gs>
                    <a:gs pos="100000">
                      <a:srgbClr val="744d30">
                        <a:alpha val="9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cc"/>
                    </a:solidFill>
                    <a:latin typeface="宋体"/>
                  </a:endParaRPr>
                </a:p>
              </p:txBody>
            </p:sp>
          </p:grpSp>
          <p:pic>
            <p:nvPicPr>
              <p:cNvPr id="20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062840" y="2374920"/>
                <a:ext cx="1023840" cy="44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5" name=""/>
            <p:cNvSpPr/>
            <p:nvPr/>
          </p:nvSpPr>
          <p:spPr>
            <a:xfrm>
              <a:off x="7168320" y="2819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忌单纯进补</a:t>
              </a:r>
              <a:endParaRPr b="0" lang="en-US" sz="1800" spc="-1" strike="noStrike">
                <a:solidFill>
                  <a:srgbClr val="0000cc"/>
                </a:solidFill>
                <a:latin typeface="宋体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124080" y="5181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中暑后饮食四大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忌</a:t>
            </a:r>
            <a:endParaRPr b="0" lang="en-US" sz="2400" spc="-1" strike="noStrike">
              <a:solidFill>
                <a:srgbClr val="0000cc"/>
              </a:solidFill>
              <a:latin typeface="宋体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7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Verdana"/>
                <a:ea typeface="华文行楷"/>
              </a:rPr>
              <a:t>预防中暑小知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、夏日出门记得备好防晒用具，如打遮阳伞、戴遮阳帽、戴太阳镜、抹防晒霜等；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、准备充足的水和饮料，特别是含钾、镁、钙盐的防暑饮料，但不要等口渴了才喝水</a:t>
            </a:r>
            <a:r>
              <a:rPr b="1" lang="zh-CN" sz="3200" spc="-1" strike="noStrike">
                <a:solidFill>
                  <a:srgbClr val="000099"/>
                </a:solidFill>
                <a:latin typeface="Verdana"/>
                <a:ea typeface="宋体"/>
              </a:rPr>
              <a:t> ；</a:t>
            </a:r>
            <a:endParaRPr b="1" lang="en-US" sz="32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备好十滴水、人丹、风油精等防暑降温药品，以防应急之用；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外出的衣服尽量选用棉、麻、丝类的织物，应少穿化纤品类服装，以免大量出汗时不能及时散热，引起中暑。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362320" y="251460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  <a:ea typeface="黑体"/>
              </a:rPr>
              <a:t>Thanks!</a:t>
            </a:r>
            <a:endParaRPr b="0" lang="en-US" sz="8800" spc="-1" strike="noStrike">
              <a:solidFill>
                <a:srgbClr val="0000cc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137c7"/>
                                      </p:to>
                                    </p:animClr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137c7"/>
                                      </p:to>
                                    </p:animClr>
                                    <p:set>
                                      <p:cBhvr>
                                        <p:cTn id="255" dur="1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3:42:02Z</dcterms:created>
  <dc:creator>10978019</dc:creator>
  <dc:description/>
  <dc:language>en-US</dc:language>
  <cp:lastModifiedBy>52404422</cp:lastModifiedBy>
  <cp:lastPrinted>2010-01-29T00:33:09Z</cp:lastPrinted>
  <dcterms:modified xsi:type="dcterms:W3CDTF">2010-08-13T03:41:55Z</dcterms:modified>
  <cp:revision>2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